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FA1-A6F0-4FA4-99C1-32B16F23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290-6797-4946-A47B-15C96187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EAB-2DAB-42E9-8DCA-AC4199B5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85E-3DD4-4A32-98AE-F804AA9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564-5CB7-4471-9967-E7BF6D64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F29-E6A3-41E1-9166-8EC0B2D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77D-3D57-46FA-A1CB-02F2370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127-1100-414D-92B2-6B23321B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FD8-FD7F-4E0A-8F2F-B9667700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876-713C-4CC0-B33F-40D9C75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51D-FED9-475B-910D-672CC80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D68-C619-4A26-B042-7C9A8E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66E-DEB8-4152-A77F-19D93EBD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ulnera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yecto Desarrollo Humano a partir del Bienestar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retaría de Ciencia y Téc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versidad Nacional de Río Cu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3645000"/>
            <a:ext cx="478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lfredo Mario Baronio – Ana María Via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174840" cy="46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5280" y="549360"/>
            <a:ext cx="54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Documento preliminar de artículo a ser presentado, para su publicación en el año 2007, en Revista Estudios de Economía Aplicada, Instituto Klein – Universidad Autónoma de Madr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609480"/>
          <a:ext cx="7772400" cy="5929560"/>
        </p:xfrm>
        <a:graphic>
          <a:graphicData uri="http://schemas.openxmlformats.org/drawingml/2006/table">
            <a:tbl>
              <a:tblPr/>
              <a:tblGrid>
                <a:gridCol w="2174760"/>
                <a:gridCol w="1865520"/>
                <a:gridCol w="1866960"/>
                <a:gridCol w="1865160"/>
              </a:tblGrid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352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cién naci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DNI (85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DNI (8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DNI (86.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a so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7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7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 médica en últimos 15 d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orio priv. (23.55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sultó (73,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orio priv. (27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(8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vez internado (18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estuvo (93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bito de intern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ado (15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 intern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nquiolitis (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bitualmente se enfer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i nunca (49.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 cuanto lo lleva al médico estando s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sualmente (98,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352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lacione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instituciones u organiz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 (24.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casos de emergenc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recurre a instituciones (54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recurre a iglesia (65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re a círculo íntimo(93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352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ubicación geográf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2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Perifér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de Salud (23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9.06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(5.94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(15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de Salud ( 40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(8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10.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(31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Paz (6.25)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 (4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(21.3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dín Norte (5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31960" y="452520"/>
          <a:ext cx="7772400" cy="6216480"/>
        </p:xfrm>
        <a:graphic>
          <a:graphicData uri="http://schemas.openxmlformats.org/drawingml/2006/table">
            <a:tbl>
              <a:tblPr/>
              <a:tblGrid>
                <a:gridCol w="2176200"/>
                <a:gridCol w="1865520"/>
                <a:gridCol w="1865160"/>
                <a:gridCol w="1865520"/>
              </a:tblGrid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352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Ma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ct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91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l tener primer hij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lescente (56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9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incom (14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und. incom (33.33) Primario comp (69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comp. (62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bajo remunerad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0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2.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gar de trabaj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ra del hogar (81.08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el hogar (8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s trabajad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4 horas (53.38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5 a 8 horas (31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ién cuida del ni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iar (59.46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en trabajo (16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en hogar (11.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su ocupación 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éstica/ocasional (37.16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lariada (18.92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entapropista (10.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 (23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civ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sola (33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ta el padre al ni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16.89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20.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uencia de visi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l (12.84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 frecuencia (7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940360" y="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ulnerabilidad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85800" y="609480"/>
          <a:ext cx="7772400" cy="600084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182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0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16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Anteced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entre 1 y 5 añ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nacido con bajo pe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ijo (13.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180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alud Reproducti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180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ntes menores de 15 añ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integrantes (35.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 de personas que aportan ingre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personas (65.54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personas o más (11.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mens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 a 500 (38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1 a 750 (29.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quint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6 pesos (84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6 pesos (81.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dec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sos (49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sos (47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(29.05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tido (22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ortes jubilatorios del 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62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60.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laboral del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ctivo (10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71640" y="404640"/>
          <a:ext cx="7772400" cy="6204240"/>
        </p:xfrm>
        <a:graphic>
          <a:graphicData uri="http://schemas.openxmlformats.org/drawingml/2006/table">
            <a:tbl>
              <a:tblPr/>
              <a:tblGrid>
                <a:gridCol w="2176200"/>
                <a:gridCol w="1865520"/>
                <a:gridCol w="1865160"/>
                <a:gridCol w="1865520"/>
              </a:tblGrid>
              <a:tr h="16380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64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3800">
                <a:tc gridSpan="4"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Infraestructura d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sión de energía eléct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irregular (18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irregular (12.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6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2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oci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envasado (79.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alefaccio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rosene (16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cinami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32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3440">
                <a:tc gridSpan="4"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eguridad en 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mesa de lu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64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armario sin lla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53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helade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58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lavand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2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agroquím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3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4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keros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89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áci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6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5.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vene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3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9.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609480"/>
          <a:ext cx="7918560" cy="4114800"/>
        </p:xfrm>
        <a:graphic>
          <a:graphicData uri="http://schemas.openxmlformats.org/drawingml/2006/table">
            <a:tbl>
              <a:tblPr/>
              <a:tblGrid>
                <a:gridCol w="2217600"/>
                <a:gridCol w="1900440"/>
                <a:gridCol w="1900080"/>
                <a:gridCol w="1900440"/>
              </a:tblGrid>
              <a:tr h="2206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2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068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cién naci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 médica en últimos 15 d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(6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vez (26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bitualmente se enfer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gunas veces (25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068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lacione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dades no signific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068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Ubicación geográf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Perifér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24.5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(33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16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(28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Norte (38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ta Teodora (5.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765000"/>
          <a:ext cx="7772400" cy="5432760"/>
        </p:xfrm>
        <a:graphic>
          <a:graphicData uri="http://schemas.openxmlformats.org/drawingml/2006/table">
            <a:tbl>
              <a:tblPr/>
              <a:tblGrid>
                <a:gridCol w="2176200"/>
                <a:gridCol w="1865520"/>
                <a:gridCol w="1865160"/>
                <a:gridCol w="1865520"/>
              </a:tblGrid>
              <a:tr h="2160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14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000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Ma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ct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lescente (22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r de 20 (22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a 24 (29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r de 20 (46.31) Adolescente (46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l tener primer hij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lescente (54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a 19 (52.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lescente (68.9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a 19 años (65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lescente (69.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a 19 (67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3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1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completo (67.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incomp (11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comp (36.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und. incomp (42,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io comp. (22,82) Secund. incomp. (44,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bajo remunerad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7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10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civ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ón estable (75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sola (61.74) Convivencia inestable (16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ta el padre al ni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52.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28.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uencia de visi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l (32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 frecuencia (16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943600" y="22860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ulnerabilidad 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5800" y="609480"/>
          <a:ext cx="7772400" cy="527688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2034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1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304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Anteced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nacido muerto después de 6 meses de embaraz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17.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6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antes de 7 d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entre 7 días y 1 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entre 1 y 5 año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9.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nacido con bajo pe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ijo (14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ción médica durante el embaraz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es de los 3 meses (63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 los 3 y los 6 meses (25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 los 3 y los 6 meses (24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s nacidos v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ijos (6.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ijos (19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ijo (71.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196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alud Reproducti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 Métodos anticoncep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10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de ligad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.9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imiento con ligadura de tromp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26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de vasectom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62.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3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60.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85800" y="609480"/>
          <a:ext cx="7772400" cy="519588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2152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3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28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de integr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personas (10.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personas (19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personas (14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personas ( 10.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o más (8.7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ntes menores de 15 añ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integrantes (24.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integrantes (5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integrantes (10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 de personas que aportan ingre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persona (90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o más (12.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mens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s de $300 (39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 a 500 (37.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s de $300 (30.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quint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6 pesos (78.7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6 pesos (93.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6 pesos (78.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dec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sos (64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sos (56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re (94.9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(74.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(1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ortes jubilatorios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8.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laboral del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upado (96.3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ctivo (19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ntes entre 15 y 24 años que no estudian y no trabaj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14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609480"/>
          <a:ext cx="7772400" cy="566100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1900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008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Infraestructura d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 Pot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7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45.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o del b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tido (12.0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ción de excr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o (10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sión de energía eléct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irregular (15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irregular (11.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1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oci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envasado (82.9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envasado (91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alefaccio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ña (33.80), Electricidad (24.07), Kerosene (15.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ie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nveniente (7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gimen de ten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upante en relación de dependencia (10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upante gratuito (38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ietario de vivienda (8.8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cinami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35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609480"/>
          <a:ext cx="7772400" cy="526104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21132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0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952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eguridad en 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mesa de lu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70.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armario sin lla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57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helade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31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agroquím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0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6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keros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75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3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áci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1.6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7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vene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8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1.8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yuntor de electric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62.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65.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esgo de accidentes por electric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 riesgos (12.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hijos menores 6 años y cuch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14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ificar los hogares de Río Cuarto de acuerdo a su vulne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3573000"/>
            <a:ext cx="80773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variables indicado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blecer escala ordinal para los 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antificar la población e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fundizar el estudio en los grupos de mayor vulner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allar las variables determinantes para explicar la vulnerabilidad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049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78136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609480"/>
          <a:ext cx="7772400" cy="5145120"/>
        </p:xfrm>
        <a:graphic>
          <a:graphicData uri="http://schemas.openxmlformats.org/drawingml/2006/table">
            <a:tbl>
              <a:tblPr/>
              <a:tblGrid>
                <a:gridCol w="2176560"/>
                <a:gridCol w="1865160"/>
                <a:gridCol w="1865520"/>
                <a:gridCol w="1865160"/>
              </a:tblGrid>
              <a:tr h="2232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Ba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-A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32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320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cién naci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DNI (40.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DNI (34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a so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75.5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7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7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 médica en últimos 15 d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de Salud o CP (20.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de Salud o CP (22.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bito de intern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úblico (12.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bitualmente se enfer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gunas veces (18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Relacione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instituciones u organiz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participa (92.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caso de emer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re a instituciones (22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re a iglesia (56.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4640"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Ubicación geográf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 Perifér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(37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(10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(4.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8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4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7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(16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erdi (47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Norte (27.78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ta Teodora (3.7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erdi (26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Conclusiones pa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ja edad y bajo nivel educativo de la madre y situaciones de maternidad en cuasi-sol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lto número de hijos, aun en madres muy jóvenes, y comienzo tardío en la atención durante el emba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ogares numerosos con alto número de menores de 15 años, bajos ingresos con pocos aportantes por hogar, no hay aportes jubilatorios del jefe de hogar y se observan jóvenes entre 15 y 24 años que no estudian ni trabaj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sentan déficit en la infraestructura sanitaria de la vivienda, no cuentan con gas natural, y se proveen de energía eléctrica de manera irregular, no son propietarios, los hogares tienen haci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tán expuestos a riesgos por accidentes con electricidad, los bebés carecen de identificación y no cuentan con cobertur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os barrios Alberdi, Banda Norte y Santa Teodora es la ubicación geográfica de estos gru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240" y="1119240"/>
            <a:ext cx="860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vulnerabilidad se determina a partir de la asoci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abla de datos y Análisi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0720" y="1989000"/>
            <a:ext cx="4643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ariables consid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ertenencia a grupo de vulnerabilidad (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Madre adolescente (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dad de la madre (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éficits en infraestructura (N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antidad de integrantes en el hogar (I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Número de personas aportantes de ingresos (A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greso mensual del hogar (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greso per cápita diario del hogar (I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453564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dentificar los fenómenos de mayor impacto en la determinación de la vulnerabilidad en la ciudad de Río Cua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989000"/>
            <a:ext cx="3678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blación estud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549 hogares con hijos nacidos e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 eliminaron 137 observaciones por carecer de información válida en las variable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6400" y="1330200"/>
            <a:ext cx="56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 Unicode MS"/>
              </a:rPr>
              <a:t>Segundo a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eterminantes de vulner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6080" y="4952880"/>
            <a:ext cx="4535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étodo de 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timación econométrica a través de la especificación de un modelo pro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87280" y="1052640"/>
                <a:ext cx="6096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da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B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4762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Especific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62864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989000"/>
            <a:ext cx="8153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V: 1 pertenencia a grupo de alta vulner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0 no pertenencia a grupo de alta vulner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AD: 1 madre adolesc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0 madre ad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Edad: edad actual de la madre, variable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BI: 1 hogar con N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0 hogar sin N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AI: cantidad de personas que aportan ingresos en el hogar, variable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M: ingreso mensual del hogar, variable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PC: ingreso per cápita diario, variable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" y="1123920"/>
                <a:ext cx="83818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9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64</m:t>
                    </m:r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88</m:t>
                    </m:r>
                    <m:r>
                      <m:rPr>
                        <m:lit/>
                        <m:nor/>
                      </m:rPr>
                      <m:t xml:space="preserve">Edad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88</m:t>
                    </m:r>
                    <m:r>
                      <m:rPr>
                        <m:lit/>
                        <m:nor/>
                      </m:rPr>
                      <m:t xml:space="preserve">NBI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51</m:t>
                    </m:r>
                    <m:r>
                      <m:rPr>
                        <m:lit/>
                        <m:nor/>
                      </m:rPr>
                      <m:t xml:space="preserve">AI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99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90720" y="1523880"/>
            <a:ext cx="6172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R Statistic (6df)       712.3683        McFadden R-squared   0.3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bability (LR stat)  0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stim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651040"/>
            <a:ext cx="8153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variables resultaron significativas individualmente a la prueba 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valor del estadístico LR indica que el conjunto de variables seleccionadas dan lugar a una buena explicación de la variable depe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bondad del ajuste se analiza a partir del 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McFadden, el cual asume un valor acorde a las estimaciones con estas téc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modelo predice correctamente el 79.43% de las obser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variable IH se excluyó de la especificación y estimación definitivas por resultar no signific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533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rpretación d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03480"/>
            <a:ext cx="79246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el modelo probit, predecir el valor de la variable dependiente equivale a hallar la probabilidad (función de densidad normal) de que el fenómeno se pres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valor de los coeficientes no puede ser interpretado como efecto marginal de los cambios en la variable explicativa sobre la variable dependiente. El efecto marginal viene d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s variables cuantitativas, por el producto de la evaluación de la función de densidad normal en los valores medios de las variables explicativas y el coeficiente de la variable bajo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s variables cualitativas, por la diferencia de probabilidad indicada al evaluar la función de densidad en el valor estimado de la variable 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762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hogar de referencia adopta los valores medios en las variables explicativas cuantitativas, y la presencia o ausencia en las variables cualitativas madre adolescente y NB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191120"/>
            <a:ext cx="830556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ra un hogar con madre adolescente, la diferencia entre tener y no tener NBI aumenta en 0.1837 la probabilidad de presentar alta vulnerabilidad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 un hogar con madre adulta, la probabilidad de pertenecer a grupos de alta vulnerabilidad social aumenta el 0.1516, según tenga o no NB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a presencia de madres adolescentes en el hogar genera más vulnerabilidad que el tener NB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a probabilidad de pertenecer a grupos vulnerables, cuando el hogar tiene madre adolescentes y NBI, aumenta en 0.3493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286000"/>
          <a:ext cx="6095880" cy="1676520"/>
        </p:xfrm>
        <a:graphic>
          <a:graphicData uri="http://schemas.openxmlformats.org/drawingml/2006/table">
            <a:tbl>
              <a:tblPr/>
              <a:tblGrid>
                <a:gridCol w="2895480"/>
                <a:gridCol w="1600200"/>
                <a:gridCol w="1600200"/>
              </a:tblGrid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g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5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90720" y="19652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dad de presentar alta vulner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43000" y="762120"/>
          <a:ext cx="6095880" cy="1676160"/>
        </p:xfrm>
        <a:graphic>
          <a:graphicData uri="http://schemas.openxmlformats.org/drawingml/2006/table">
            <a:tbl>
              <a:tblPr/>
              <a:tblGrid>
                <a:gridCol w="2895480"/>
                <a:gridCol w="1600200"/>
                <a:gridCol w="1600200"/>
              </a:tblGrid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g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6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7.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6.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5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143000" y="36504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 marginal de la variable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3048120"/>
          <a:ext cx="6095880" cy="1676160"/>
        </p:xfrm>
        <a:graphic>
          <a:graphicData uri="http://schemas.openxmlformats.org/drawingml/2006/table">
            <a:tbl>
              <a:tblPr/>
              <a:tblGrid>
                <a:gridCol w="2895480"/>
                <a:gridCol w="1600200"/>
                <a:gridCol w="1600200"/>
              </a:tblGrid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g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N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8.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.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madres adoles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1.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143000" y="26668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 marginal de la variable I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0292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aumento en el número de personas que aportan ingresos y la mayor disponibilidad de ingresos diarios por integrante del hogar son las variables que presentan mayor impacto para disminuir la probabilidad de pertenecer a grupos de alta vulner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puestas de políticas pública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6668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600200"/>
            <a:ext cx="792504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tir el diseño de políticas tendientes a impartir educación sexual para evitar el embarazo adolescente con deserción escolar y el alto número de hijos a edades temp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lizar la atención ambulatoria a toda la población tendiente a amortiguar el efecto de la desigualdad social y asegurar la infraestructura para el recién nacido tendiente a realizar controles del niño s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iversalizar la  provisión de agua potable, baños y cloacas para disminuir la prevalencia de enfermedades infecto contagio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r planes de inclusión social y/o empleo público para capacitar y ordenar el microcrédito productivo, tendientes a aumentar los niveles de ocupación y disminuir la delincuencia en los jóv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abla de datos y Análisi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1640" y="2492280"/>
            <a:ext cx="4643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ariables consid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Madre adolescente (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dad de la madre (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éficits en infraestructura (N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antidad de integrantes en el hogar (I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Número de personas aportantes de ingresos (A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greso mensual del hogar (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greso per cápita diario del hogar (I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ertenencia a grupo de vulnerabilidad (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645000"/>
            <a:ext cx="417672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étodo de 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probabilístico para explicar el comportamiento de la variable endógena categórica madre ad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989000"/>
            <a:ext cx="3384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blación estud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686 hogares con hijos nacidos e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6400" y="1330200"/>
            <a:ext cx="567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rcer análi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eterminantes de embarazo adol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abla de datos y Análisis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816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ariables consid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99 variables cualitativas con 527 modalidades asoc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789360"/>
            <a:ext cx="86043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étodo de 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nálisis factorial de correspondencia múlt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90 variables activas con 381 modalidades asoc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9 variables ilustrativas con 146 modalidades asoc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artición del espacio de observación y clasificación de los hog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989000"/>
            <a:ext cx="3384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blación estud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686 hogares con hijos nacidos e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06400" y="1330200"/>
            <a:ext cx="56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 Unicode MS"/>
              </a:rPr>
              <a:t>Primer a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4981680"/>
            <a:ext cx="3024360" cy="1832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Grupos y 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79640" y="1424160"/>
            <a:ext cx="663264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scripción de l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549360"/>
          <a:ext cx="7772400" cy="6043680"/>
        </p:xfrm>
        <a:graphic>
          <a:graphicData uri="http://schemas.openxmlformats.org/drawingml/2006/table">
            <a:tbl>
              <a:tblPr/>
              <a:tblGrid>
                <a:gridCol w="2174760"/>
                <a:gridCol w="1865160"/>
                <a:gridCol w="1866960"/>
                <a:gridCol w="186552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ma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ct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99.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a 34 años (41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a 39 años (16.5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95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a 29 años (33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94.8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a 29 años (36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al tener primer hij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94.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a 29 años (44.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a 34 años (26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85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a 24 años (45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a 29 años (29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a (70.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a 24 años (41.0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13.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. com (40.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.incom (14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iario com (13.64) Secund. Com (36,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und. </a:t>
                      </a: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 (61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iario com (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.incom (16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bajo remunerad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9.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9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7.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gar de trabaj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ra hogar (83.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hogar (7.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s trabajad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 de 8 horas (23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4 horas (21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ién cuida del ni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iar (46.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l servicio (21.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re en hogar (8.26) Madre en trabajo (8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su ocupación 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lariada (57.02) Cuentapropista (26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á embaraz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6,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civ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ada (67.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ada (60.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ada (46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940360" y="7308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ulnerabilidad b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6000" y="303120"/>
          <a:ext cx="7056360" cy="6029280"/>
        </p:xfrm>
        <a:graphic>
          <a:graphicData uri="http://schemas.openxmlformats.org/drawingml/2006/table">
            <a:tbl>
              <a:tblPr/>
              <a:tblGrid>
                <a:gridCol w="1973160"/>
                <a:gridCol w="1695600"/>
                <a:gridCol w="1693800"/>
                <a:gridCol w="1693800"/>
              </a:tblGrid>
              <a:tr h="188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3520">
                <a:tc gridSpan="4"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anteced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nacido muerto después de 6 meses de embaraz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6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antes de 7 d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entre 7 días y 1 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9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7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muerto entre 1 y 5 año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 nacido con bajo pe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8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85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ienzo de atención médica durante el embaraz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es de los 3 meses (60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es de los 3 meses (58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os nacidos v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ijo (47,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ijos (35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3520">
                <a:tc gridSpan="4"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alud reproducti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 Métodos anticoncep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7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5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de ligadura de tromp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97.9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ligadura de tromp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1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de vasectom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80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68.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8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imiento a vasectom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52.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49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46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2174760"/>
                <a:gridCol w="1865520"/>
                <a:gridCol w="1866960"/>
                <a:gridCol w="1865160"/>
              </a:tblGrid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9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 de integr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rs. (42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personas (33,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3 pers. (36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ntes menores de 15 añ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persona (51.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persona (46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personas (41.0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 de personas que aportan ingre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personas (94.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persona (93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persona (80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mens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a 1500 (34.3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1 a 3000 (19.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1 a 1000 (21,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1 a 1000 (30.00), 1001 a 1500 (16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1 a 750 (28.32), 751 a 1000 (25.43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quint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.01 a $18 (23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 de $24 ( 12.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.01 a $12 (34.3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1 a 12 pesos (41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1 a 12 pesos (32.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per cápita diario dec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.01 a $15 (20.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9.01 a $12 (21.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1 a 9 pesos (24.06), 9.01 a 12 pesos (17.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1 a 6 pesos (39.88), 6.01 a 9 pesos (21.39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tido (50.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re (95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re (85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ortes jubilatorios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80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(71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ertura de salud del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a social (64.46) Prepaga (29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a Social (55.31), Prepaga (21.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laboral del je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upado (96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upado (95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5800" y="609480"/>
          <a:ext cx="7772400" cy="5743800"/>
        </p:xfrm>
        <a:graphic>
          <a:graphicData uri="http://schemas.openxmlformats.org/drawingml/2006/table">
            <a:tbl>
              <a:tblPr/>
              <a:tblGrid>
                <a:gridCol w="2174760"/>
                <a:gridCol w="1865520"/>
                <a:gridCol w="1866960"/>
                <a:gridCol w="18651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infraestructura d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 Pot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9.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8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9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8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1.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o del bañ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lusivo (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lusivo (99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ción de excr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acas (83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acas (76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acas (65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100,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sión energía eléct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(99.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(99.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ec (97.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0.9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6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oci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 (87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 (62.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ustible para calefaccio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 (83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y otros (7.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natural (58.7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envasado (14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ie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te (98,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(13.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te (99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gimen de ten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ietario (5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quilino (33.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quilino (30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quilino (39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cinami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8.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(9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85800" y="609480"/>
          <a:ext cx="7772400" cy="5888160"/>
        </p:xfrm>
        <a:graphic>
          <a:graphicData uri="http://schemas.openxmlformats.org/drawingml/2006/table">
            <a:tbl>
              <a:tblPr/>
              <a:tblGrid>
                <a:gridCol w="2174760"/>
                <a:gridCol w="1865520"/>
                <a:gridCol w="1866960"/>
                <a:gridCol w="18651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lner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-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ón de análisis: Seguridad en el hog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mesa de lu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69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72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armario sin lla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43.3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39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en helade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75.7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lavand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91.9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agroquím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1,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3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keros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79.3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áci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3.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5.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vene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26.0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83.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es con líq.cali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(97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yuntor de electric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 75.6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ne (61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9:18:47Z</dcterms:created>
  <dc:creator>..</dc:creator>
  <dc:description/>
  <dc:language>en-US</dc:language>
  <cp:lastModifiedBy> ANA VIANCO</cp:lastModifiedBy>
  <dcterms:modified xsi:type="dcterms:W3CDTF">2007-08-21T04:04:39Z</dcterms:modified>
  <cp:revision>32</cp:revision>
  <dc:subject/>
  <dc:title>Vulnerabilidad social</dc:title>
</cp:coreProperties>
</file>